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B62-4C5C-4E67-BDE0-8C9B8F35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51D-6275-44C2-AAEE-BEF9CFFD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64F-EF50-425C-8244-EE25D38D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F80-6666-4420-928D-93468BB1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872-06FF-49DD-81E6-7262EA9D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E43-7F68-4FA7-A9A5-54E97DA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E1B-DD2E-46DC-9B0D-74C8ECA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009-82E3-4FDC-BD00-14A03F4B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EF6-8348-4B72-BDDA-DF63740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787-2FE3-48CD-AF70-70844902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5C9-6EDD-490C-B41D-799B67D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8A2-E154-4E4B-828E-2EB4EC8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1AB-19C3-4EA0-9550-065914E48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5" t="31250" r="25782" b="31250"/>
          <a:stretch/>
        </p:blipFill>
        <p:spPr>
          <a:xfrm>
            <a:off x="380880" y="457200"/>
            <a:ext cx="4800600" cy="224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60948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ndy War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6405" t="25004" r="49219" b="31250"/>
          <a:stretch/>
        </p:blipFill>
        <p:spPr>
          <a:xfrm>
            <a:off x="990720" y="304812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24560" y="2895480"/>
            <a:ext cx="292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55:27Z</dcterms:created>
  <dc:creator>Patrick J. Mooney</dc:creator>
  <dc:description/>
  <dc:language>en-US</dc:language>
  <cp:lastModifiedBy>Patrick J. Mooney</cp:lastModifiedBy>
  <dcterms:modified xsi:type="dcterms:W3CDTF">2009-11-10T04:12:10Z</dcterms:modified>
  <cp:revision>3</cp:revision>
  <dc:subject/>
  <dc:title>Slide 1</dc:title>
</cp:coreProperties>
</file>